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A14-68EA-4986-B375-3575BF58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72E-C7AD-4B2D-A7A5-B804474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48E-2237-42FB-9CA8-B04ECC3C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9D4-C3CE-4D53-B59D-0E7D6229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869-2906-4F92-8F0B-9A7F60AE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554-BAE8-496F-A46E-79635514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CD0-57FA-4FD3-8D90-520E56BA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ADD5-992E-4A08-9DFE-3CF3AB88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74A-35B0-4618-BEDA-36E728F3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F809-570E-4786-86EF-235C804F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86A1-170B-4AB5-9DFD-EAE0960D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661-4518-422F-903A-8982585F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9860-D789-446B-ACAF-B8D42A3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497E-418C-459B-B206-510BE4E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AA2A-1817-45E5-8379-83EA485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80E-B36B-4C42-AEF9-9B23613B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ACE0-864E-4571-BBE7-0F5BCC5B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41F-E2B0-4B99-9959-010BCD0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307-34AB-4E87-9F8D-73B2DE23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755-0EBC-40CE-8735-06487E49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A11-5A35-4299-AC29-8E53726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F9A-4F2C-421A-8C9D-B608C68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1AE-0013-4C69-BE06-B808759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023-0DED-422D-BDDB-F533245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EFB-7BE3-4FC3-858C-7F50797B054C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4F6-922B-445D-BBE9-E0FE4D6BAF26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kali Metals!!!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y Sidney and Brayde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ements name are: Lithium, Sodium, Potassium, Rubidium, Cesium, and Francium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’s classified as a metal!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 has one valence number!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ts found in the first column but don’t count Hydrogen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products that r used with them are medicine, fertilizer, and soap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y family is pretty inserting because all the names end with a ium!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roup 1!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Periodic Table!!!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9:25Z</dcterms:created>
  <dc:creator>tatumadmin</dc:creator>
  <dc:description/>
  <dc:language>en-US</dc:language>
  <cp:lastModifiedBy>tatumadmin</cp:lastModifiedBy>
  <dcterms:modified xsi:type="dcterms:W3CDTF">2009-12-04T15:31:39Z</dcterms:modified>
  <cp:revision>2</cp:revision>
  <dc:subject/>
  <dc:title>         Alkali Metals!!!  </dc:title>
</cp:coreProperties>
</file>